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53DF-E516-4D9F-8AF3-13ADE3FB5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E8F7-12A4-4C6E-85E6-B34C60DE6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1906. – </a:t>
            </a:r>
            <a:r>
              <a:rPr b="0" lang="sr-CS" sz="900" spc="-1" strike="noStrike">
                <a:solidFill>
                  <a:srgbClr val="000000"/>
                </a:solidFill>
                <a:latin typeface="Arial"/>
              </a:rPr>
              <a:t>Реакција на учестало погрешно означавање и/или кривотворење леков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1938 – Реакција на нежељено дејство (акутну бубрежну инсуфицијенцију) еликсира који је садржао сулфанилимид растворен у диетилен гликолу и од кога је 1937. умрло 100 љ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1952 – Реакција на појаву апластичне анемије узроковане хлорамфенико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објављена је прва књига о нежељеним ефектима ле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57D5-A843-4557-9D57-061C1D2C7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1906. – </a:t>
            </a:r>
            <a:r>
              <a:rPr b="0" lang="sr-CS" sz="900" spc="-1" strike="noStrike">
                <a:solidFill>
                  <a:srgbClr val="000000"/>
                </a:solidFill>
                <a:latin typeface="Arial"/>
              </a:rPr>
              <a:t>Реакција на учестало погрешно означавање и/или кривотворење леков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1938 – Реакција на нежељено дејство (акутну бубрежну инсуфицијенцију) еликсира који је садржао сулфанилимид растворен у диетилен гликолу и од кога је 1937. умрло 100 љ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1952 – реакција на појаву апластичне анемије узроковане хлорамфениколом, објављена је прва књига о нежељеним ефектима лекова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1961. – афера ''талидомид'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62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16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70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62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716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770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453360"/>
            <a:ext cx="7925040" cy="0"/>
          </a:xfrm>
          <a:prstGeom prst="line">
            <a:avLst/>
          </a:prstGeom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7"/>
          <p:cNvSpPr/>
          <p:nvPr/>
        </p:nvSpPr>
        <p:spPr>
          <a:xfrm>
            <a:off x="685800" y="310356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armacoepi.org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990720"/>
            <a:ext cx="8458200" cy="200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600" spc="-1" strike="noStrike">
                <a:solidFill>
                  <a:srgbClr val="000099"/>
                </a:solidFill>
                <a:latin typeface="Verdana"/>
              </a:rPr>
              <a:t>Увод у фармакоепидемиологију: дефиниције, историјат и развој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7010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едмет: Фармакоепидемиологиј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Недељ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ц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. др Радиша Павловић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Verdana"/>
              </a:rPr>
              <a:t>Области примене фармакоепидемилогије</a:t>
            </a:r>
            <a:endParaRPr b="0" lang="en-US" sz="3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2473200"/>
            <a:ext cx="849600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спитивање ефикасности лек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спитивање не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љених ефеката лек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спитивање деловања неколико терап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спитивање прописивања и кори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шћ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ња лек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на односа користи и ризика од примењеног ле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99"/>
                </a:solidFill>
                <a:latin typeface="Verdana"/>
              </a:rPr>
              <a:t>Историјат и развој фармакоепидемиологије</a:t>
            </a:r>
            <a:endParaRPr b="0" lang="en-US" sz="3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1906. – први закон САД о чистој храни и лековима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ure Food and Drug 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Федерална влада стиче право да са тржишта уклони погрешно направљен или означен производ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1938. – закон САД о храни, лековима и козметици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ood, Drug and Cosmetic 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Уводи се претклиничко испитивање токсичности. Произвођач је дужан да прикупи и достави податке о безбедности лека пре изласка лека на тржиш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1952. –основан први званични регистар нежељених ефеката лекова на крвне лозе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MA Council on Pharmacy and Chemist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99"/>
                </a:solidFill>
                <a:latin typeface="Verdana"/>
              </a:rPr>
              <a:t>Историјат и развој фармакоепидемиологије</a:t>
            </a:r>
            <a:endParaRPr b="0" lang="en-US" sz="3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1960. – Америчка управа за храну и лекове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DA)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спонзорише интензивно прикупљање података о нежељеним ефектима лекова у болницама и студије коришћења лек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1961. талидомидска трагед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1962. – САД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efauver-Harr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мандм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Захтева се екстензивно претклиничко испитивање лекова, које поред токсичности мора да обухвати и ефикасно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1968. - </a:t>
            </a:r>
            <a:r>
              <a:rPr b="0" i="1" lang="sr-Latn-CS" sz="2400" spc="-1" strike="noStrike">
                <a:solidFill>
                  <a:srgbClr val="000000"/>
                </a:solidFill>
                <a:latin typeface="Verdana"/>
              </a:rPr>
              <a:t>WHO Pilot Research Project for International Drug Monitoring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четак фармаковигиланц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Циљ - да се развије систем за откривање претходно непознатих или неразјашњених нежељених дејстава ле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99"/>
                </a:solidFill>
                <a:latin typeface="Verdana"/>
              </a:rPr>
              <a:t>Историјат и развој фармакоепидемиологије</a:t>
            </a:r>
            <a:endParaRPr b="0" lang="en-US" sz="3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1970-1980.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ЖЕЉЕНО ДЕЈСТВО ЛЕКОВА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verse Drug Reaction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R)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вака штетна и/или непријатна реакција на лек примењен код људи у одговарајућој дози у циљу профилаксе, дијагностике или лечења болести или за модификацију физиолошких функција, која се мора лечити и која указује на опасност од даље примене лека, па се мора или изменити дозни режим или потпуно прекинути примена лека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ЖЕЉЕНИ ДОГАЂАЈ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verse Drug Event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нежељена појава која се јавила у току примене лека, али није неопходно њиме изазв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99"/>
                </a:solidFill>
                <a:latin typeface="Verdana"/>
              </a:rPr>
              <a:t>Историјат и развој фармакоепидемиологије</a:t>
            </a:r>
            <a:endParaRPr b="0" lang="en-US" sz="3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2112840"/>
            <a:ext cx="864216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1980-1990. – Студије коришћења лекова и нежељена дејства/догађај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удије ефикасности, фармакоекономске студије, студије квалитета живота, мета-анализ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студије злоупотребе лекова, интеракције лекова – нов фокус Ф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.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одич Добре Фармакоепидемиолошке пракс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(ISPE (International Society for Pharmacoepidemiology) Guidelines for Goo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Pharmacoepidemiology Practices)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pharmacoepi.org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99"/>
                </a:solidFill>
                <a:latin typeface="Verdana"/>
              </a:rPr>
              <a:t>Фармакоепидемиологија данас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70028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45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Информације које допуњују сазнања из премаркетиншких студија – одређивање односа користи и риз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Већа прецизнос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Код пацијената који нису проучавани пре стављања лека у промет, нпр. старије особе, деца, трудниц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Промене узроковаме другим лековима и другим болестим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У односу на друге лекове који се користе за исте индик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5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Нове информације које нису доступне из премаркетиншких студ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Откривање претходно неоткривених штетних и благотворних ефеката - неуобичајени ефекти или одложени ефек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Подаци о употреби лек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Ефекти предозирања лековим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Економске импликације употребе лек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5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) Општи доприноси фармакоепидемиолог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Уверења о сигурности лек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Испуњавање етичких и законских обавез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00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7748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99"/>
                </a:solidFill>
                <a:latin typeface="Verdana"/>
              </a:rPr>
              <a:t>Врсте фармакоепидемиолошких студија</a:t>
            </a: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476360" y="214308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 u="sng">
                <a:solidFill>
                  <a:srgbClr val="000000"/>
                </a:solidFill>
                <a:uFillTx/>
                <a:latin typeface="Verdana"/>
              </a:rPr>
              <a:t>уз интервенциј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148360" y="213372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 u="sng">
                <a:solidFill>
                  <a:srgbClr val="000000"/>
                </a:solidFill>
                <a:uFillTx/>
                <a:latin typeface="Verdana"/>
              </a:rPr>
              <a:t>без интервенциј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627280" y="2781360"/>
            <a:ext cx="151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неконстролисана студија (отворена студија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356000" y="2708280"/>
            <a:ext cx="16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без индивидуалних података (еколошка тј. секуларна студија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258920" y="27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контролисана студиј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84720" y="2708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са индивидуалним подацим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0" y="1773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ИСТРАЖИВАЊ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050920" y="3357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са додатом контролном групом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24000" y="3284640"/>
            <a:ext cx="158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без додате контролне групе (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cross over </a:t>
            </a: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студија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859280" y="328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дескриптивна студија (неконтролисана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763640" y="3860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без рандомизације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916360" y="407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постоји рандомизациј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4149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без рандомизације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042920" y="4292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постоји рандомизациј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179280" y="486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без заслепљивањ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1187280" y="5013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постоји заслепљивање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једноструко слепа студиј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1009800" y="5805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двоструко слепа студиј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124000" y="4581360"/>
            <a:ext cx="151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без заслепљивања (прагматична студија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3059280" y="5013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постоји заслепљивање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194472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једноструко слепа студиј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881440" y="58104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двоструко слепа студиј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3995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ретроспективна студиј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529272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проспективна студиј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6732720" y="3645000"/>
            <a:ext cx="180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етиолошка или аналитичка студија (контролисана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4643280" y="429264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студија пресек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4932360" y="472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ретроспективна студиј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32"/>
          <p:cNvSpPr/>
          <p:nvPr/>
        </p:nvSpPr>
        <p:spPr>
          <a:xfrm>
            <a:off x="6588000" y="4437000"/>
            <a:ext cx="19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проспективна студиј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4067280" y="5373720"/>
            <a:ext cx="158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без додате контролне групе (случај-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cross over</a:t>
            </a: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34"/>
          <p:cNvSpPr/>
          <p:nvPr/>
        </p:nvSpPr>
        <p:spPr>
          <a:xfrm>
            <a:off x="5435640" y="52293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са додатом контролном групом из популације (случај-популација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5"/>
          <p:cNvSpPr/>
          <p:nvPr/>
        </p:nvSpPr>
        <p:spPr>
          <a:xfrm>
            <a:off x="4716360" y="587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са додатом контролном групом (случај-контрола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6012000" y="4797360"/>
            <a:ext cx="158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без додате контролне групе (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cross over </a:t>
            </a: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студија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37"/>
          <p:cNvSpPr/>
          <p:nvPr/>
        </p:nvSpPr>
        <p:spPr>
          <a:xfrm>
            <a:off x="7415280" y="4799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са додатом контролном групом из популације (поређење очекиваног и добијеног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6661080" y="559260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са додатом контролном групом (кохортна студија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39"/>
          <p:cNvSpPr/>
          <p:nvPr/>
        </p:nvSpPr>
        <p:spPr>
          <a:xfrm flipH="1">
            <a:off x="7235640" y="4724280"/>
            <a:ext cx="14436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40"/>
          <p:cNvSpPr/>
          <p:nvPr/>
        </p:nvSpPr>
        <p:spPr>
          <a:xfrm>
            <a:off x="7480440" y="4726080"/>
            <a:ext cx="0" cy="8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41"/>
          <p:cNvSpPr/>
          <p:nvPr/>
        </p:nvSpPr>
        <p:spPr>
          <a:xfrm>
            <a:off x="7667640" y="4724280"/>
            <a:ext cx="1461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42"/>
          <p:cNvSpPr/>
          <p:nvPr/>
        </p:nvSpPr>
        <p:spPr>
          <a:xfrm flipH="1">
            <a:off x="5148000" y="5084640"/>
            <a:ext cx="21564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43"/>
          <p:cNvSpPr/>
          <p:nvPr/>
        </p:nvSpPr>
        <p:spPr>
          <a:xfrm>
            <a:off x="5518080" y="5084640"/>
            <a:ext cx="0" cy="86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44"/>
          <p:cNvSpPr/>
          <p:nvPr/>
        </p:nvSpPr>
        <p:spPr>
          <a:xfrm>
            <a:off x="5651640" y="5084640"/>
            <a:ext cx="14436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45"/>
          <p:cNvSpPr/>
          <p:nvPr/>
        </p:nvSpPr>
        <p:spPr>
          <a:xfrm flipH="1">
            <a:off x="610920" y="5373720"/>
            <a:ext cx="86508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46"/>
          <p:cNvSpPr/>
          <p:nvPr/>
        </p:nvSpPr>
        <p:spPr>
          <a:xfrm>
            <a:off x="1692360" y="5373720"/>
            <a:ext cx="7128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47"/>
          <p:cNvSpPr/>
          <p:nvPr/>
        </p:nvSpPr>
        <p:spPr>
          <a:xfrm flipH="1">
            <a:off x="2626920" y="5373720"/>
            <a:ext cx="79236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48"/>
          <p:cNvSpPr/>
          <p:nvPr/>
        </p:nvSpPr>
        <p:spPr>
          <a:xfrm>
            <a:off x="3564000" y="5373720"/>
            <a:ext cx="7128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49"/>
          <p:cNvSpPr/>
          <p:nvPr/>
        </p:nvSpPr>
        <p:spPr>
          <a:xfrm>
            <a:off x="7524720" y="414972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50"/>
          <p:cNvSpPr/>
          <p:nvPr/>
        </p:nvSpPr>
        <p:spPr>
          <a:xfrm flipH="1">
            <a:off x="5940000" y="4149720"/>
            <a:ext cx="1368360" cy="57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51"/>
          <p:cNvSpPr/>
          <p:nvPr/>
        </p:nvSpPr>
        <p:spPr>
          <a:xfrm flipH="1">
            <a:off x="5435280" y="2421000"/>
            <a:ext cx="43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52"/>
          <p:cNvSpPr/>
          <p:nvPr/>
        </p:nvSpPr>
        <p:spPr>
          <a:xfrm>
            <a:off x="6443640" y="2421000"/>
            <a:ext cx="2890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53"/>
          <p:cNvSpPr/>
          <p:nvPr/>
        </p:nvSpPr>
        <p:spPr>
          <a:xfrm flipH="1">
            <a:off x="6156000" y="3068640"/>
            <a:ext cx="3603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54"/>
          <p:cNvSpPr/>
          <p:nvPr/>
        </p:nvSpPr>
        <p:spPr>
          <a:xfrm flipH="1">
            <a:off x="4788000" y="3645000"/>
            <a:ext cx="28872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55"/>
          <p:cNvSpPr/>
          <p:nvPr/>
        </p:nvSpPr>
        <p:spPr>
          <a:xfrm>
            <a:off x="5364000" y="364500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56"/>
          <p:cNvSpPr/>
          <p:nvPr/>
        </p:nvSpPr>
        <p:spPr>
          <a:xfrm>
            <a:off x="5651640" y="3645000"/>
            <a:ext cx="21564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7020000" y="3068640"/>
            <a:ext cx="43164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58"/>
          <p:cNvSpPr/>
          <p:nvPr/>
        </p:nvSpPr>
        <p:spPr>
          <a:xfrm flipH="1">
            <a:off x="2050560" y="2421000"/>
            <a:ext cx="3603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59"/>
          <p:cNvSpPr/>
          <p:nvPr/>
        </p:nvSpPr>
        <p:spPr>
          <a:xfrm>
            <a:off x="2771640" y="2421000"/>
            <a:ext cx="2160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60"/>
          <p:cNvSpPr/>
          <p:nvPr/>
        </p:nvSpPr>
        <p:spPr>
          <a:xfrm flipH="1">
            <a:off x="1332000" y="3141720"/>
            <a:ext cx="2872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61"/>
          <p:cNvSpPr/>
          <p:nvPr/>
        </p:nvSpPr>
        <p:spPr>
          <a:xfrm>
            <a:off x="2124000" y="31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62"/>
          <p:cNvSpPr/>
          <p:nvPr/>
        </p:nvSpPr>
        <p:spPr>
          <a:xfrm flipH="1">
            <a:off x="684000" y="3789360"/>
            <a:ext cx="2156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63"/>
          <p:cNvSpPr/>
          <p:nvPr/>
        </p:nvSpPr>
        <p:spPr>
          <a:xfrm>
            <a:off x="1332000" y="3789360"/>
            <a:ext cx="21564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64"/>
          <p:cNvSpPr/>
          <p:nvPr/>
        </p:nvSpPr>
        <p:spPr>
          <a:xfrm flipH="1">
            <a:off x="899640" y="4653000"/>
            <a:ext cx="3589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65"/>
          <p:cNvSpPr/>
          <p:nvPr/>
        </p:nvSpPr>
        <p:spPr>
          <a:xfrm>
            <a:off x="1547640" y="4653000"/>
            <a:ext cx="144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66"/>
          <p:cNvSpPr/>
          <p:nvPr/>
        </p:nvSpPr>
        <p:spPr>
          <a:xfrm flipH="1">
            <a:off x="2484360" y="3716280"/>
            <a:ext cx="21600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67"/>
          <p:cNvSpPr/>
          <p:nvPr/>
        </p:nvSpPr>
        <p:spPr>
          <a:xfrm>
            <a:off x="3203640" y="3716280"/>
            <a:ext cx="288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68"/>
          <p:cNvSpPr/>
          <p:nvPr/>
        </p:nvSpPr>
        <p:spPr>
          <a:xfrm flipH="1">
            <a:off x="2987280" y="4437000"/>
            <a:ext cx="14436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9"/>
          <p:cNvSpPr/>
          <p:nvPr/>
        </p:nvSpPr>
        <p:spPr>
          <a:xfrm>
            <a:off x="3564000" y="4437000"/>
            <a:ext cx="14436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0"/>
          <p:cNvSpPr/>
          <p:nvPr/>
        </p:nvSpPr>
        <p:spPr>
          <a:xfrm flipH="1">
            <a:off x="3276720" y="1989000"/>
            <a:ext cx="35856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71"/>
          <p:cNvSpPr/>
          <p:nvPr/>
        </p:nvSpPr>
        <p:spPr>
          <a:xfrm>
            <a:off x="5435640" y="1989000"/>
            <a:ext cx="43164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74"/>
          <p:cNvSpPr/>
          <p:nvPr/>
        </p:nvSpPr>
        <p:spPr>
          <a:xfrm>
            <a:off x="7308720" y="1700280"/>
            <a:ext cx="16574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прикази случајев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900" spc="-1" strike="noStrike">
                <a:solidFill>
                  <a:srgbClr val="000000"/>
                </a:solidFill>
                <a:latin typeface="Verdana"/>
              </a:rPr>
              <a:t>серије случајева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99"/>
                </a:solidFill>
                <a:latin typeface="Verdana"/>
              </a:rPr>
              <a:t>Фармакоепидемиологија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752480"/>
            <a:ext cx="8424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ефинициј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400" spc="-1" strike="noStrike">
                <a:solidFill>
                  <a:srgbClr val="336699"/>
                </a:solidFill>
                <a:latin typeface="Verdana"/>
              </a:rPr>
              <a:t>Фармакоепидемиологија је наука о употреби и ефектима лекова у популациј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окус фармакоепидемиолог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Verdana"/>
              </a:rPr>
              <a:t>Фармакологиј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- наука о ефектима лек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Verdana"/>
              </a:rPr>
              <a:t>Клиничка фармакологија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- наука о ефектима лекова у људском организм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етоде фармакоепидемиолог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Verdana"/>
              </a:rPr>
              <a:t>Епидемиологиј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– наука о дистрибуцији обољења у популациј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Клиничка фармакологија 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9280" y="1752480"/>
            <a:ext cx="87026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сновни принцип – индивидуализован терапијски приступ према потребама пациј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опходно је одредити однос користи и ризика за сваког пацијента понаос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ФЕ пружа информације о корисним и штетним ефектима било ког лека, омогућавајући тако бољу процену односа ризика и користи за употребу одређеног лека код одређеног пациј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Клиничка фармакологија 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Фармаковигилнц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А - augmente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зно зависна, повезана са механизмом дејства, предвидива, мање озбиљ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Б – bizarre 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кције су обично ретке, нису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зно зависн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епредвидиве и потенцијално озбиљније – главни фокус ФЕ истражив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Клиничка фармакологија 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1752480"/>
            <a:ext cx="82436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Фармаковигилн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укупљање нежељених реакција на лекове – спонтано пријављивање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прикази случаје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азов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трђивање узрочно последичне вез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Лек-лек интеракција – огромна величина узор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ређење ефеката лекова из исте груп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Клиничка фармакологија 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ступа се методама ФЕ тј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udies of adverse effects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једина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udies of adverse events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пул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Клиничка фармакологија 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752480"/>
            <a:ext cx="83516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Фармакокинетика и фармакодинам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једно, ова два поља омогућавају предвиђање ефекта који се може запазити код пацијента након примене одређеног ле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ухвата елементе обе ове области, истражујући ефекте постигнуте применом лек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очито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годна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конкомитантној приме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лативно новије поље приме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Епидемиологија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ука о дистрибуцији обољења и њихових карактеристика у популациј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е основне области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нфективне болести у великим популацијама – епидемиј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хроничне боле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Фармакоепидемиологија при проучавању употребе и ефекта лекова у популацији користи епидемиолошке технике изучавања хроничних боле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главном након регистрације ле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Ф</a:t>
            </a:r>
            <a:r>
              <a:rPr b="0" lang="sr-CS" sz="3800" spc="-1" strike="noStrike">
                <a:solidFill>
                  <a:srgbClr val="000099"/>
                </a:solidFill>
                <a:latin typeface="Verdana"/>
              </a:rPr>
              <a:t>армакоепидемиологија</a:t>
            </a:r>
            <a:endParaRPr b="0" lang="en-US" sz="3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968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линичка фармакологија – фокус истражив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пидемиологија – методологија истражив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мена метода епидемиологије на област проучавања клиничке фармаколог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30:34Z</dcterms:created>
  <dc:creator>Natasha</dc:creator>
  <dc:description/>
  <dc:language>en-US</dc:language>
  <cp:lastModifiedBy>Windows User</cp:lastModifiedBy>
  <dcterms:modified xsi:type="dcterms:W3CDTF">2020-09-27T16:12:09Z</dcterms:modified>
  <cp:revision>227</cp:revision>
  <dc:subject/>
  <dc:title> Историјат и развој фармакоепидемиологије   Врсте фармакоепидемиолошкох студија.  </dc:title>
</cp:coreProperties>
</file>